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1D4-597E-420C-8660-5E9905DFBD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3F7-266D-4E51-BE2F-A8E00A0244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4A4D-5114-4508-B3E3-997FCFAC23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0661-EA1C-422B-8434-E682561E8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95A-FD12-4EB3-A516-2B1D11044A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0037-A7AE-4F30-BC50-F36C7218B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EEF-2F62-4C5F-9C47-E8B212B574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5D58-AB99-4ABF-9CDB-A50D084F9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DB8-F9C3-4762-846F-E6C1762A5D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19EC-2159-480B-B75E-BF84C4455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11B-CF2F-4E0F-AC3D-0B63626D7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EAB0-FC0C-49ED-8BEE-5278CD997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ABEA-B42A-4CC3-84EA-F0C17549D0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FE39-866C-4A23-98F4-D9BFBEED01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101-F724-4901-B2E3-2E7013AB7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08A-906D-4F6E-B6A9-CB6A2FA0B1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253-6283-4ADE-926B-2A62E21E69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5A45-AC7D-4947-A23C-52EEBC7ADD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4FAF-58A5-4091-9F4A-CC90A27456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338A-84EB-4487-87F2-7ED4021458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625-1648-4BB2-85AA-6A092F4C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E4C-7D8F-491A-97F8-041107E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BB4-5DAB-42D3-BC23-DE49FFD6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CDE-3D6F-448F-AF13-86099747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78ED-4795-4DF9-ACAA-4C5FFA11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D160-428C-47D0-A563-FA437FFE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663D-BFBC-45DC-AFFA-FAB7E8A3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3C58-7618-44A9-892C-A70D059D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075E-1764-4A0A-A717-D1457F7D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B9C8-64FC-453F-9BED-2575557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5453-B6BB-4FF3-97EA-52747E4E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2BE-19D0-42D0-9C01-2410FE2E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7B6-C1C5-4B6E-8994-D36B3F1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06FD-E647-4883-B8C7-A554908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594D-371B-4F64-92DC-9DD9687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76EE-90C2-413E-832C-591B45BE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3D85-EEAB-48EE-87A8-27EEEEBF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8EDC-12FE-43FE-AD7E-C1A63974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4CE1-C6D7-4271-97FB-E9703125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689B-040A-4FD7-8A58-0DEC713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EF39-B848-4129-B14C-44343871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21DA-C40F-433A-A631-144DCD4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D73-6001-4B27-BAD0-1634B27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E06B-DFBF-4F13-8E82-75E22822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7D72-0213-44C0-9D4A-BF0F8AD2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7548-F841-4D65-9AC2-1B43E734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F8FB-E3A1-4AD5-A01A-0CAE838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D8CB-2CE2-4492-8AC6-B254C95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65F6-7850-4E7F-BB98-6132D896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88D5-5A2F-4AD2-A218-35CA8D1A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96C4-EDE9-45F8-AF8E-2709640B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E559-391D-4E97-9C8F-9F4D3B26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7240-F3E0-48F1-AB02-F388612D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4E2-92BB-49FD-9ADF-291DF929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66A9-14DD-4DDB-9B8E-D0FA38E0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CD403-69ED-4D25-AEDF-7A0BF408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7E4C-9A41-4DDB-9DFB-B38061B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EE7B-EED2-4721-BFEF-DB92E1E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A7BA-A783-4C40-B0A2-C69AB7E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5850-B8BE-4FB7-B565-7295CA3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7CF52-D8BE-4A7C-855A-F8679C6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0015-39A2-4C00-8B62-8E08AACC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5285-A5E4-424E-AEB6-37155453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925-ECC2-41EE-9F58-7D0A91AF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F4D-D64A-483F-B9E9-856AE020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877-9428-466E-A428-2CF756F7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D0A-0B10-41C2-8CDB-6FDF749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02D-68E7-45A3-846A-A5F3D29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AC4B-5D74-4CE9-A155-3BA84238156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63B3-8BAE-4EBB-BF19-62182C1A5C5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CA45-DDF0-4900-9EAB-6FDEAEFB34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6C5B-3191-4933-922A-EAA82AA9A9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3" descr="1.jpg"/>
          <p:cNvPicPr/>
          <p:nvPr/>
        </p:nvPicPr>
        <p:blipFill>
          <a:blip r:embed="rId2"/>
          <a:stretch/>
        </p:blipFill>
        <p:spPr>
          <a:xfrm>
            <a:off x="250920" y="255600"/>
            <a:ext cx="8642160" cy="634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2.gif"/>
          <p:cNvPicPr/>
          <p:nvPr/>
        </p:nvPicPr>
        <p:blipFill>
          <a:blip r:embed="rId3"/>
          <a:stretch/>
        </p:blipFill>
        <p:spPr>
          <a:xfrm>
            <a:off x="2459160" y="1428840"/>
            <a:ext cx="47559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Содержимое 3" descr="10.jpg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Содержимое 3" descr="12.jpg"/>
          <p:cNvPicPr/>
          <p:nvPr/>
        </p:nvPicPr>
        <p:blipFill>
          <a:blip r:embed="rId2"/>
          <a:stretch/>
        </p:blipFill>
        <p:spPr>
          <a:xfrm>
            <a:off x="250920" y="190440"/>
            <a:ext cx="87138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Содержимое 3" descr="13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https://region.center/source/OREL/vremennie/pamaytniki/25_big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008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Содержимое 3" descr="14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06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Содержимое 3" descr="15.jpg"/>
          <p:cNvPicPr/>
          <p:nvPr/>
        </p:nvPicPr>
        <p:blipFill>
          <a:blip r:embed="rId2"/>
          <a:stretch/>
        </p:blipFill>
        <p:spPr>
          <a:xfrm>
            <a:off x="179280" y="136440"/>
            <a:ext cx="878544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Содержимое 3" descr="16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Содержимое 3" descr="17.jpg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260" name="Давид Тухманов — Марш 'День Победы' (www.mixmuz.ru).mp3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024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Рисунок 5" descr="18 -1 копия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263" name="минута молчания — Метроном (www.mixmuz.ru)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827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3" descr="3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Содержимое 3" descr="19.jpg"/>
          <p:cNvPicPr/>
          <p:nvPr/>
        </p:nvPicPr>
        <p:blipFill>
          <a:blip r:embed="rId2"/>
          <a:stretch/>
        </p:blipFill>
        <p:spPr>
          <a:xfrm>
            <a:off x="250920" y="235080"/>
            <a:ext cx="871380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Содержимое 3" descr="3-1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Содержимое 3" descr="4.jpg"/>
          <p:cNvPicPr/>
          <p:nvPr/>
        </p:nvPicPr>
        <p:blipFill>
          <a:blip r:embed="rId2"/>
          <a:stretch/>
        </p:blipFill>
        <p:spPr>
          <a:xfrm>
            <a:off x="250920" y="190440"/>
            <a:ext cx="8713800" cy="6478560"/>
          </a:xfrm>
          <a:prstGeom prst="rect">
            <a:avLst/>
          </a:prstGeom>
          <a:ln w="0">
            <a:noFill/>
          </a:ln>
        </p:spPr>
      </p:pic>
      <p:pic>
        <p:nvPicPr>
          <p:cNvPr id="231" name="В.М.Молотов - В.И.Лебедев-Кумач - А.В. Александров — Речь Молотова - Священная в (www.mixmuz.ru)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48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3" descr="5.jpg"/>
          <p:cNvPicPr/>
          <p:nvPr/>
        </p:nvPicPr>
        <p:blipFill>
          <a:blip r:embed="rId2"/>
          <a:stretch/>
        </p:blipFill>
        <p:spPr>
          <a:xfrm>
            <a:off x="250920" y="182520"/>
            <a:ext cx="8713800" cy="6486480"/>
          </a:xfrm>
          <a:prstGeom prst="rect">
            <a:avLst/>
          </a:prstGeom>
          <a:ln w="0">
            <a:noFill/>
          </a:ln>
        </p:spPr>
      </p:pic>
      <p:pic>
        <p:nvPicPr>
          <p:cNvPr id="234" name="Прощание — Слованки (www.mixmuz.ru).mp3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8937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7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7 -1.jpg"/>
          <p:cNvPicPr/>
          <p:nvPr/>
        </p:nvPicPr>
        <p:blipFill>
          <a:blip r:embed="rId3"/>
          <a:stretch/>
        </p:blipFill>
        <p:spPr>
          <a:xfrm>
            <a:off x="7072200" y="285840"/>
            <a:ext cx="15382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Содержимое 3" descr="6.jpg"/>
          <p:cNvPicPr/>
          <p:nvPr/>
        </p:nvPicPr>
        <p:blipFill>
          <a:blip r:embed="rId2"/>
          <a:stretch/>
        </p:blipFill>
        <p:spPr>
          <a:xfrm>
            <a:off x="250920" y="190440"/>
            <a:ext cx="86421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3" descr="7-2.jpg"/>
          <p:cNvPicPr/>
          <p:nvPr/>
        </p:nvPicPr>
        <p:blipFill>
          <a:blip r:embed="rId2"/>
          <a:stretch/>
        </p:blipFill>
        <p:spPr>
          <a:xfrm>
            <a:off x="179280" y="190440"/>
            <a:ext cx="87138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Содержимое 3" descr="9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04:37:44Z</dcterms:created>
  <dc:creator>Di Jd</dc:creator>
  <dc:description/>
  <dc:language>en-US</dc:language>
  <cp:lastModifiedBy>Admin</cp:lastModifiedBy>
  <dcterms:modified xsi:type="dcterms:W3CDTF">2019-10-30T12:57:21Z</dcterms:modified>
  <cp:revision>23</cp:revision>
  <dc:subject/>
  <dc:title>Презентация PowerPoint</dc:title>
</cp:coreProperties>
</file>